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8B1-AA05-411B-AA4F-16FF8BA7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378-F23B-4611-BC2C-3A9A212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C89-9F21-41CD-BD9B-AEBF7D06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9A3-7DE1-4E41-B423-469AE98B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DEA-D7E5-46E1-9A28-6B0C5D12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AD6-247E-4F03-96EA-37EEB2F2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BFF-E1E1-4F61-9CAA-92570C30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862-BED3-4FAD-AD28-A2E9A9F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084-DFA7-4EE9-BA4A-2E54EC99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B84-3892-4E68-91E1-FE48FF4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103-B1B9-4304-9E82-5DF8D1C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171-3687-4927-B052-D1E7404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E3B5-7286-49E4-9A87-3DAEDF976C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dor de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5000"/>
            <a:ext cx="756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Diseño y construcción de un instrumento, capaz de medir profundidad en el agu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628640"/>
            <a:ext cx="8532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Rango de Medición 0 a 5 mts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Portátil y autónomo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Materiales de desecho y/o materiales simples 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Fácil de us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Amigable con el medio ambiente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Tener una vida útil de más de 10 med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ámetros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ci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peti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cilidad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mpacto en el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ateriales uti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268280"/>
          <a:ext cx="8229600" cy="4616640"/>
        </p:xfrm>
        <a:graphic>
          <a:graphicData uri="http://schemas.openxmlformats.org/drawingml/2006/table">
            <a:tbl>
              <a:tblPr/>
              <a:tblGrid>
                <a:gridCol w="1306440"/>
                <a:gridCol w="4165560"/>
                <a:gridCol w="275760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 de Cáte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 (28/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lanteamiento Proyecto B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formación de Grupos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 (05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ceptos de 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 (19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ción de forma de medición,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de Deta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 (26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 (02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,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str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 (09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 (16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Final Proyecto B, Prue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esentaciones Grupos (15 min c/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9: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esquema de trabajo y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rainStor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vestigación: Métodos de medición de profund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0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método de medición de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mación de consorcios de grup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1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sentaciones por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Método (1 para todo el cu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28T15:10:20Z</dcterms:modified>
  <cp:revision>12</cp:revision>
  <dc:subject/>
  <dc:title>EL63A-Taller de Proyecto en Control II</dc:title>
</cp:coreProperties>
</file>